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18B-1A77-4414-8E7A-0F61B99F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21-CA8E-4181-91FE-7AB0F07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E02-D5DC-4166-8C60-D4A6C152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BD2-078C-467B-98C0-A806B62B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0E44-C495-49CC-9C4B-DF073BCE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7A05-E99A-4AAD-B32E-E56737A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1C56-A89C-449B-A749-DEEDD01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E352-C9FD-406C-AA62-B9379A8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17A-47E5-45B9-9336-FE52169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127-1EE6-411F-9A90-E7F4BCC2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860-9792-4652-9877-1078FBF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AD3-6893-49A7-81AF-E3162F4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9084-B624-4260-BA35-C647BB9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C8A-D8CE-429B-A929-2C9F358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179C-4C73-49B7-B481-DDA7E41E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0FD7-E5CE-4C6B-9C9E-DA571853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8C7-0637-484D-93FB-F44AD423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AF4-AAC9-46D0-851B-CFAE4F1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9BF-0BEA-4F22-B91D-86D3297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97F-B037-46E0-96DA-A79CAF7E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60D-6395-4E48-BB51-159AB252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351-562F-4314-B03E-6961211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2A2-DE3B-4110-8A65-ECC36B1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154-8CB5-4285-BD79-E3FF130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A394-4670-49E7-9D39-F1EE37E3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A1B9-7644-4BD1-B8BC-826EAD6AB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rambulo/2243056949/sizes/o/" TargetMode="External"/><Relationship Id="rId2" Type="http://schemas.openxmlformats.org/officeDocument/2006/relationships/hyperlink" Target="http://en.wikipedia.org/wiki/Sleep_paralysis" TargetMode="External"/><Relationship Id="rId3" Type="http://schemas.openxmlformats.org/officeDocument/2006/relationships/hyperlink" Target="http://www.stanford.edu/~dement/paralysis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aemon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1028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Sleep Paralysis</a:t>
            </a:r>
            <a:endParaRPr b="0" lang="en-US" sz="60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Arial"/>
              </a:rPr>
              <a:t>Ilwon Cha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What is it? 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5410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n normal REM sleep, neurotransmitters in your spinal cord prevent you from moving during dreams. When REM ends, their hold lifts. But If you wake too quickly, you might emerge mid-paralysi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Often with dream-like hallucinati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468380_SPINALCO_copy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287440" cy="3002040"/>
          </a:xfrm>
          <a:prstGeom prst="rect">
            <a:avLst/>
          </a:prstGeom>
          <a:ln w="0">
            <a:noFill/>
          </a:ln>
        </p:spPr>
      </p:pic>
      <p:pic>
        <p:nvPicPr>
          <p:cNvPr id="96" name="audio_hallucination-500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26672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Paralysis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You cannot move any part of your body except, blinking and breathing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Your brain inhibits you from moving to prevent any injury during dream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ven though you’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wake, brain stil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nks it is a dream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ustaining paralysi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" name="2243056949_e7c1c1a64e_o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Hallucination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You might see or hear things that don’t exist in real life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Many feel a heavy weight on their chest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fuseli_nightmare-1781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320040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300_95966" descr=""/>
          <p:cNvPicPr/>
          <p:nvPr/>
        </p:nvPicPr>
        <p:blipFill>
          <a:blip r:embed="rId2"/>
          <a:stretch/>
        </p:blipFill>
        <p:spPr>
          <a:xfrm>
            <a:off x="5257800" y="3581280"/>
            <a:ext cx="2305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symptoms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ere might be some terro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ighly related to narcolepsy, uncontrolled sleep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nds with a sound or touch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nightmare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2004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21304"/>
                </a:solidFill>
                <a:latin typeface="굴림"/>
              </a:rPr>
              <a:t>Clonazepam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aytime medicine for  ADH (Attention-deficit Hyperactivity), and structured sleep patter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808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Ritali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ighly effectiv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ake at bedtim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uscle relax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ritalin3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27950-hydr005o" descr=""/>
          <p:cNvPicPr/>
          <p:nvPr/>
        </p:nvPicPr>
        <p:blipFill>
          <a:blip r:embed="rId2"/>
          <a:stretch/>
        </p:blipFill>
        <p:spPr>
          <a:xfrm>
            <a:off x="5562720" y="5105520"/>
            <a:ext cx="2133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Citation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굴림"/>
                <a:hlinkClick r:id="rId1"/>
              </a:rPr>
              <a:t>http://www.flickr.co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굴림"/>
                <a:hlinkClick r:id="rId2"/>
              </a:rPr>
              <a:t>http://en.wikipedia.org/wiki/Sleep_paralysi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굴림"/>
                <a:hlinkClick r:id="rId3"/>
              </a:rPr>
              <a:t>http://www.stanford.edu/~dement/paralysis.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opular Science, October 2008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59:31Z</dcterms:created>
  <dc:creator>user</dc:creator>
  <dc:description/>
  <dc:language>en-US</dc:language>
  <cp:lastModifiedBy>user</cp:lastModifiedBy>
  <dcterms:modified xsi:type="dcterms:W3CDTF">2008-10-07T19:51:40Z</dcterms:modified>
  <cp:revision>1</cp:revision>
  <dc:subject/>
  <dc:title>Sleep Paralysis</dc:title>
</cp:coreProperties>
</file>